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EF62-6049-4E34-8C9D-8500D5F2A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02C5-FE87-4117-B7CA-9DDC12704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3CF1BE-BA89-4695-AAFA-BBC2EC8C7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2D4A9B-4FC9-4522-A83F-F845384E2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2DB932-DB52-4EE0-AE49-09BE59A5A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43DF35-A46D-4ACD-9352-EB60B79E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7C8510-68CD-444F-9AF2-8BCEA637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478E0B-6843-403E-AAB3-4BF72641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B02BD6-AAE9-4C26-A70F-6B887E425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003324-A8EB-4101-AAB9-41D80C536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FDDF4D-DDF8-47A7-A93E-302C34D3F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1744D5-DEB9-4032-A5E6-50E9C42A5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5700-839A-4B3E-B8EE-AEBDE01A8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C75BC5-70C3-4EAA-9EA4-2EFD38A03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63B764-1A66-40B8-A96E-84C48AE64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1F29D6-26B9-4B4F-A601-E423A03FD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782C83-40AE-406F-BE5A-1B651EE66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6A2F9A-A525-4079-88C2-31AB658DB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DE2D06-B8D2-479B-8E3B-6AD2249D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B3DA86-05C8-4172-B685-AC6AAD80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A61294-83C6-4BAA-AC9B-5D4FB4E8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AEE545-767D-40F9-BBC2-A5142A3E7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F74874-5231-4CE9-BE88-301CE9248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7FFB-76EA-4D9F-9501-3A78564A5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0BC242-CAA1-4CC0-BF34-121B0E1A1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14B438-3CB9-467C-A34E-C704DCCA0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6CD7E2-FED1-4C1C-99DA-036A29B0A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37A8DF-CACA-46CD-A644-9CB9665C8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55A2E5-6298-4073-BD4A-8190467FB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3DF440-58D2-436E-AF97-12669EB80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8692FD-AB02-489F-99AF-7085C8DEA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F1B49C-555B-44E5-8C9C-0ECB9F77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2ADEE0-5126-4114-863F-9EEC4AF1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F6A79C-7398-434F-BF34-65B57415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C0C0A-39B8-4DBF-9684-00FDD215C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025DC4-E65F-457A-A319-785FED452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E2D416-9CBA-4BF5-97F5-80538209D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176E21-AF43-4D68-8C09-8421AB84C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645709-2C2B-4B33-A575-76CE6ECBF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8CD8AB-2E96-44B0-9931-60C3F1092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7E6391-39D6-420B-80BB-91C4C656D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24C640-C217-4793-9D1A-330E9D822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F20078-6440-427F-86D6-ACE4EE369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ECF736-8864-4A8C-A377-90A3B934B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DC2583-4734-4C0E-92FD-FCE12A61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B5343-7662-462F-9F7F-4217C793A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02BC84-A291-43E0-9A42-3F9FFE2D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26698F-16E3-4148-827B-260D69AD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0AF287-A273-43C7-91BD-B7AD2C3FB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9387BA-D672-435D-AD07-327AB2186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54878A-6306-405B-9B7E-154D7B6D0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DBECB2-1898-43A3-BC8A-A30FE9D90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EFD88B-3C8C-419B-AF50-3D139F6F4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7DC611-206A-425F-880E-5EFD328D2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50C6C4-518E-4B7F-9ECD-06DDAC4CF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940969-703D-4F6D-ACD0-364CB98B7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55BB2-014C-49F3-9979-1D044ED76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0F2AD8-B664-4551-9303-E61ACF792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816A6E-46E4-437D-9DE5-3F2DCCB0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71BB29-626E-4FC5-84EF-26602BA6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9BAD9A-2F33-4366-8792-A879E26D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9319A9-D540-487D-B95C-4CB18D5BC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BF830F-D91A-4985-A8B1-A0ADE4210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8AA5EA-0EF3-4570-A1BD-E9A9E3F37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673C19-00FC-4361-B16D-E77B0AC15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FB053B-7CF2-4E7F-A7DB-63763F1C9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28BFC9-80A5-43FF-B537-276E1CBFD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D2F9E-FDC5-4253-BC69-ABB2E6FE0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A71C63-C16D-4F23-BFED-88DBC9C4C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34752E-27B4-436A-B79C-9CC6A3118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0BAD31-BB5C-43F6-8DB3-CB0EBDF74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D6DD2A-0FDD-4D47-9CE1-75A41ABA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404796-FB10-4164-90BB-0DB74469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623761-9FE1-4DE8-A66D-4085F57C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5F8DA6-C9B3-4B0C-8B16-66AEC051F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BA66D3-C0D8-4475-BE3F-694248EC7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0A6C4B-6828-4DCD-BE3A-8E9213E07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9F78E1-33F6-4BA9-ABA8-B6AABA757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D472C-B5E6-46DE-8EB2-CD1D30F19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2C960C-B428-44B0-A1BF-A71FA8D9F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A12256-AD49-4590-B20E-CA16D1259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895336-61B4-4A6F-860B-5ED13D435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4C3DAB-8658-4FBB-983B-77BCD4796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37CCCC-C406-471C-9AAB-30B2F52F5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506B72-413A-4A8B-9710-4105CB43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F95792-3479-498D-B9AC-780558A3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06B93F-63FA-48B0-9008-7545B2B8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CB2C9B-AC29-41B6-AC9E-D22AEB002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EF3530-A70E-489B-B8B1-4DAACB785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65E5F-0034-412F-9C93-B6B8CD50A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1155BF-E46E-4762-875A-B41B73BAF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80F643-0081-4C42-9ABA-C86636FF4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A08D83-FC18-4B2A-9B19-6B6B3514B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CA3823-B003-4681-87F4-B6A3837ED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9C2A40-1A7C-4A90-AC49-FE7D6B5D0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368557-5E75-403B-8B9B-D0A54C719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7FA183-0E22-4145-9DB8-51A78D782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D1C64D-BC1D-4413-8E63-C2F81BED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3E27C6-BA22-4C10-BD69-CBE445F4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A881C9-7E88-4A15-BA6C-EA2B6D83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F6CB5-FC4E-47B0-B94A-8D49E521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0C43F2-D6DE-4329-B6EE-A4E251830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A1B961-B578-435B-926D-E2AB09383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D8A8AA-8938-4B9D-B4DE-CACB13884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230094-0897-4A6A-BFBC-6DDEBA07A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4D1C74-4CAD-4AD2-A08B-6235093BF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093E16-BEED-482B-B06C-CC6973CD5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BB9E5B-F90B-4DE2-B47A-93F605325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7A50F0-5C47-4175-8335-D72B09B77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D2D330-FB06-4E12-A9AB-6429FF202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FF0D2B-F980-4B4D-B08E-F2E2EEEF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BC0E-4317-4EB3-9467-CA2F0C4B8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6F33A-E869-4832-9C4F-F21F18E6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FE302E-15D8-48D0-A322-41200B08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297D7B-4135-4D22-94DB-E9C37278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684265-1B3B-4B3C-AA05-3B977BF5D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1AC532-8605-4B28-996B-24EA1F0C5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161888-75E5-4DE8-A78C-11FADED0F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47DE1C-70E7-4230-A5CD-54438CE41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F14D03-D5F1-496C-9B3B-EBBC6BA75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5FCAE1-9CA1-4029-A97A-DC7B538B6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F8CD7D-D471-4BF5-9E73-1DD7CD3E1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3F3237-243D-450C-9C18-2C476BDB7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20D28-DC4E-4E2E-839A-EE848563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006FFE-3B26-4F73-8A19-B383DDB26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683725-DD7B-4EFF-992A-399C8011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EDB518-A29D-43CE-BEB2-406075C7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E4E957-8DFE-4123-9465-7D616122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CE33A7-546F-4F95-A192-4567ACFE7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15AB49-E739-4610-82CE-9AC1BF634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5CC1A2-ABBD-4EBC-B051-28850D0C4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0E8880-FD4C-46E6-BA9B-7D706D360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21D661-398D-48DB-BBC7-480A4A32E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9070D1-1C22-46FC-884D-4820E20D2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D0D62-4AE7-4651-ADB7-F4F367F5C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645A42-797F-4958-B49C-1F7B4A71A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C5083E-EAD7-4AB6-8A26-ADCB5AA7F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AA37FA-E7AB-403D-B184-D24CEF999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76D690-A360-4BC3-8E60-FF317F5A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7869F6-E7DF-4658-A81A-8828C429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0FBDD5-84FA-475A-8261-82954F4D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6AFB0A-606A-431E-B28D-B042A22CB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E83842-001E-41FD-A54A-ABF72C50D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D7C0A9-B182-4FCE-8D69-CA1E95714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958F90-515F-4E6F-9518-C68C05917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407C9-50BE-4846-AB64-62AB7E7FD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7562B9-95D9-4AE9-B4EB-C6D4DD0A4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077A8B-D35B-45F4-8336-95211A752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EA5843-77D5-4431-AADE-01474BA50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35DF9F-6F35-4A9F-A4AE-43A793577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44393D-0A82-4F0A-9A70-33F50ACC1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C523B7-D31C-4E66-9825-C273A800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8FFE63-BAA9-4A4C-86D1-3B7B0E27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4AFE35-53AB-41A6-A834-A09A1E1E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8F8F19-4E33-4C81-8458-6F5A92E74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1DF1AA-D814-44B2-8CB7-3C1934B7E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BE31C-521C-4272-A2AA-D0E6E2010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4F173C-4978-4804-861D-4515C9329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C0A7E0-5899-478C-A2DC-E42C553EE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9B73FE-7D72-47B6-B532-E2351B9A2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809AD4-CC62-4FBC-B6FB-C8DCBC928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1ECF66-52B6-4EEE-9FEA-FC5699B9D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538DBF-2FD8-4338-B918-9E27E979A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4011CC-D0B5-4AFA-B696-18CB33A4C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64CC8A-CDD3-4935-8789-18FF16F1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02FC28-6C9B-40AA-8D12-DCDD55A17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28AD43-55F4-4911-BA2F-CFBEF4D6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AA052-C53B-4B43-85CB-502366B4A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6DD838-2CD9-4362-B228-A620231E3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C652EB-43E3-4BE9-AEC4-024E7843B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6FFDD7-E7E8-434E-A0EC-80E216B91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F5C77-EF9A-434C-8F99-757CF4009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E972D-DAC2-48BE-8C96-17D274ABE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3918B-6168-4647-B3C3-AD3D00C4D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F6878-8C0E-482F-BDAB-09EEBD6EB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9B34-E914-4F07-A0A8-54221A5CE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C8BCB-7845-4820-BFDC-6A2277041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33DA0-9E8D-4009-91BF-A445173F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C5049-9A1F-4F6B-A12A-1BD2C478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12097-081C-4EE4-B873-4472E5CD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8C946-79BA-4C1B-93CB-2B326C970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2D427-10A1-4FCE-8FA1-BD85831C3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9EBF9-DDCE-4D92-938F-C34587910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6086F-561D-413E-8CC4-F207F7DF7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0BEA8-E5ED-4176-A9F4-A600BF42C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7F269-8D58-4195-8FED-060D3EEC9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7583-7249-4141-BB06-53B283A78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A7954-8015-4DD3-AA3F-9349F7747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32259-5A07-4095-8913-A1A04305D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7CD61-D72B-4106-9298-9E1CB3CA6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2CCFC-55E9-40E5-918E-4ED15ED5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D237B-48C8-43E8-B91C-A1556A7F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BF456-6949-4128-8BD9-8C829258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CDFBC-F14D-4944-93F6-C3DB84577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93E47-81D9-4107-95E1-70A27A53C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CD50D-19F7-4737-932B-81BF1D4C4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46823-A7C4-4E52-B732-57424094E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25BE-52C6-4CA4-BDF2-DFC00EC09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89C1E-CF56-4C63-A2F6-BFA00F104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4B56C-E36C-423F-8002-D90200DAB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5FFE3-A147-41D7-B7FD-AE5947DEC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66ADA-A0CA-4AAA-9520-BA7306EE5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80F13-15A0-4232-8E39-AFB66BEE1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C7879-4685-4C94-91EA-62CB8EAA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0FD13-1A6E-4AA8-9E72-6A065E48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995B4-ADC1-4EB7-8E9D-4DBA2626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5F1B6-4931-4B42-A080-6EF35DFB9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79648-A49F-4AB4-80E4-2CED23868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A6EB-DA4B-4551-8940-7580AEF84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6683A-583B-40CF-9727-4B22C6A07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6B4A0-6168-4EB0-A344-EF367E9C0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8792D2-4AB3-4C48-9163-131042E56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9E976-A2E9-4202-AA64-A9F3418B4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8E7D7-CD33-4DFF-867D-D16E132D4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3A0EDA-F544-4339-8B44-B6507118F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7E2462-035C-48FE-82A3-54922F714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91B362-A3BC-4F4B-A412-5FC65072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BAD3A-14C8-4DE1-8CD6-B5E56827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3B21D-1ADD-4D51-AFD7-176664A5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0B46-D8E1-4F1E-8179-48E21348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E08118-A609-4D55-AACE-A8FEEF0A6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D4026-2237-4A3B-B681-B15658615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AFED1F-9D56-43BF-B5AB-560DDE923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85748-4214-4D4C-9B54-62B7A7451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755257-9CD3-44EE-BC47-9DEE6E805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B5CEBA-146D-4960-A585-6F2989A9D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8AB04-2ACE-4BC6-9670-8DEF50BD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AC1F78-2529-461E-9084-1F38FA1F2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DC582-4A5F-4D70-B5F7-67417C4AA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1D0B6F-0F79-4303-B895-9D119495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5931-CB93-4D03-8DBE-54A85499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F12DAE-67F4-4D24-97F2-6E0AC47E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72CD2C-1815-4A15-85B8-A271C2A4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EB3A63-1F02-4B74-9D7B-7AF13DF3D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DB7A4-BA0C-4183-8206-6AC71D982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45B03-32E3-4447-9F67-04A66895F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7DC126-99B2-4DA1-B696-F2B6F91EB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7DCDC-A0B9-4FE9-A4F2-98BB5D32A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54AAC3-12E1-4122-BDA6-718431DC2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69F2BF-D5FE-470A-9370-7D4C518BD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B414C7-7219-4856-B397-3C0F2C4A9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E916-E67F-42F0-BB95-2E15E8C0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7DF34-5FFB-4B5D-9E57-7D052C704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EB225E-5428-457D-9E21-0202F379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F82F8D-7BB8-4139-AE42-07E565A1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2E21D6-6176-47F9-8CA3-A03C04F7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F49019-5271-4A46-BFF5-AAD4C585F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25665C-82B7-4529-9FC6-254518F25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FD7A7-AEDB-45DB-BED8-3141EB82C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C67548-7443-4997-8143-704BB374D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82C094-3F4A-44F4-BB9D-D30FD671C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F2D2CE-D72D-440A-A5CE-BEE0C3014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A771B-1FE4-4948-B2DB-4A4977CBAF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3ED67-3EF8-4E86-AC09-70194B31AE5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CCE3A-6D9A-461A-BCF0-BC71BD9824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44928-26B0-469C-824B-49A5BAD482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1DABB-6170-4734-84D2-2951D695C6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5DAE3-63A4-4DA7-9EA0-6A845892D8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54CAD-8084-438E-A0C1-07675D1E95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33815-C02C-4E6C-8568-30A3B88856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60728-FA17-446A-91BB-811D736932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385E9-961C-4F67-AE7D-F257544552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488DE-3A59-47A4-BE12-2FBCD2D08A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979F4-DF23-4EE2-BF59-0E16F26773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95AB2-4199-4436-A350-DD1C35C6A7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3D9FC-E440-4EA9-B195-EA0C656B3C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FC895-7CC4-4F81-995C-A873FC2B11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E1D14-EE67-4405-BC95-098FD7750A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E2AF3-272C-4964-A17F-4B594BD82D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9DABA-3C12-4A52-A7C3-7868D7C289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AFB71-D49F-4FF0-993E-F33AA42C3B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BA287-408F-425C-A4E2-57065B2F45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D53AC-4BCC-4A70-A552-83DBE830F0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8A6B7-A88A-4BAD-BA6B-C3FA004CAD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598E0-9F3F-4899-A6F1-3F89421160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09174-029A-4721-9183-6B6225EA4C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62863-8BB2-4214-9368-77B0476F3A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24295-3CE3-4203-95F3-D034EDE0E5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6489B-8298-486C-B372-FEABE4A128D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2152D-4F23-47D7-A21C-AABEADACD5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2AC1A-26F2-4AC9-8110-3196CF0D41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9ACF7-D7D9-4FD6-BCA0-5B1D686B5A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2E83A-20DD-4778-9B10-571AB5C508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38985-DA62-42B0-9C26-9ABA10CED0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0DF68-F681-443C-9B88-014401FF2D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1F51C-62D4-4D6B-B8E7-3ED748A087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3537D-F85A-4172-83A7-B4EB813198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92F05-FBE4-4945-8CD9-E87D41702A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BE937-98A9-4A7F-B202-A8973184C5B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21A14-06E1-415D-AB7F-5FB37CAAD9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01FE0-A2AA-4F36-948A-507F887975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869AF-FC2E-440A-A9BF-6D6080DCF0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" descr=""/>
          <p:cNvPicPr/>
          <p:nvPr/>
        </p:nvPicPr>
        <p:blipFill>
          <a:blip r:embed="rId1"/>
          <a:stretch/>
        </p:blipFill>
        <p:spPr>
          <a:xfrm>
            <a:off x="1285920" y="3000240"/>
            <a:ext cx="6958080" cy="5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1" descr=""/>
          <p:cNvPicPr/>
          <p:nvPr/>
        </p:nvPicPr>
        <p:blipFill>
          <a:blip r:embed="rId1"/>
          <a:stretch/>
        </p:blipFill>
        <p:spPr>
          <a:xfrm>
            <a:off x="285840" y="785880"/>
            <a:ext cx="8572320" cy="581976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2" descr=""/>
          <p:cNvPicPr/>
          <p:nvPr/>
        </p:nvPicPr>
        <p:blipFill>
          <a:blip r:embed="rId2"/>
          <a:stretch/>
        </p:blipFill>
        <p:spPr>
          <a:xfrm>
            <a:off x="785880" y="2583000"/>
            <a:ext cx="428400" cy="33480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2" descr=""/>
          <p:cNvPicPr/>
          <p:nvPr/>
        </p:nvPicPr>
        <p:blipFill>
          <a:blip r:embed="rId3"/>
          <a:stretch/>
        </p:blipFill>
        <p:spPr>
          <a:xfrm>
            <a:off x="714240" y="4572000"/>
            <a:ext cx="5461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Picture 1" descr=""/>
          <p:cNvPicPr/>
          <p:nvPr/>
        </p:nvPicPr>
        <p:blipFill>
          <a:blip r:embed="rId1"/>
          <a:stretch/>
        </p:blipFill>
        <p:spPr>
          <a:xfrm>
            <a:off x="318960" y="933480"/>
            <a:ext cx="8506080" cy="563868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2" descr=""/>
          <p:cNvPicPr/>
          <p:nvPr/>
        </p:nvPicPr>
        <p:blipFill>
          <a:blip r:embed="rId2"/>
          <a:stretch/>
        </p:blipFill>
        <p:spPr>
          <a:xfrm>
            <a:off x="714240" y="1928880"/>
            <a:ext cx="546120" cy="42840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2" descr=""/>
          <p:cNvPicPr/>
          <p:nvPr/>
        </p:nvPicPr>
        <p:blipFill>
          <a:blip r:embed="rId3"/>
          <a:stretch/>
        </p:blipFill>
        <p:spPr>
          <a:xfrm>
            <a:off x="714240" y="4000680"/>
            <a:ext cx="54612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Picture 1" descr=""/>
          <p:cNvPicPr/>
          <p:nvPr/>
        </p:nvPicPr>
        <p:blipFill>
          <a:blip r:embed="rId1"/>
          <a:stretch/>
        </p:blipFill>
        <p:spPr>
          <a:xfrm>
            <a:off x="309600" y="703440"/>
            <a:ext cx="8524800" cy="61243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2" descr=""/>
          <p:cNvPicPr/>
          <p:nvPr/>
        </p:nvPicPr>
        <p:blipFill>
          <a:blip r:embed="rId2"/>
          <a:stretch/>
        </p:blipFill>
        <p:spPr>
          <a:xfrm>
            <a:off x="714240" y="2214720"/>
            <a:ext cx="546120" cy="42840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2" descr=""/>
          <p:cNvPicPr/>
          <p:nvPr/>
        </p:nvPicPr>
        <p:blipFill>
          <a:blip r:embed="rId3"/>
          <a:stretch/>
        </p:blipFill>
        <p:spPr>
          <a:xfrm>
            <a:off x="5369040" y="4786200"/>
            <a:ext cx="1285920" cy="42876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2" descr=""/>
          <p:cNvPicPr/>
          <p:nvPr/>
        </p:nvPicPr>
        <p:blipFill>
          <a:blip r:embed="rId4"/>
          <a:stretch/>
        </p:blipFill>
        <p:spPr>
          <a:xfrm>
            <a:off x="6929280" y="4786200"/>
            <a:ext cx="1285920" cy="42876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2" descr=""/>
          <p:cNvPicPr/>
          <p:nvPr/>
        </p:nvPicPr>
        <p:blipFill>
          <a:blip r:embed="rId5"/>
          <a:stretch/>
        </p:blipFill>
        <p:spPr>
          <a:xfrm>
            <a:off x="1940040" y="6327720"/>
            <a:ext cx="1285920" cy="42876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2" descr=""/>
          <p:cNvPicPr/>
          <p:nvPr/>
        </p:nvPicPr>
        <p:blipFill>
          <a:blip r:embed="rId6"/>
          <a:stretch/>
        </p:blipFill>
        <p:spPr>
          <a:xfrm>
            <a:off x="3714840" y="6327720"/>
            <a:ext cx="1285920" cy="42876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2" descr=""/>
          <p:cNvPicPr/>
          <p:nvPr/>
        </p:nvPicPr>
        <p:blipFill>
          <a:blip r:embed="rId7"/>
          <a:stretch/>
        </p:blipFill>
        <p:spPr>
          <a:xfrm>
            <a:off x="5572080" y="6338880"/>
            <a:ext cx="171468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Picture 1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8496000" cy="530532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2" descr=""/>
          <p:cNvPicPr/>
          <p:nvPr/>
        </p:nvPicPr>
        <p:blipFill>
          <a:blip r:embed="rId2"/>
          <a:stretch/>
        </p:blipFill>
        <p:spPr>
          <a:xfrm>
            <a:off x="2011320" y="1960560"/>
            <a:ext cx="928800" cy="42876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2" descr=""/>
          <p:cNvPicPr/>
          <p:nvPr/>
        </p:nvPicPr>
        <p:blipFill>
          <a:blip r:embed="rId3"/>
          <a:stretch/>
        </p:blipFill>
        <p:spPr>
          <a:xfrm>
            <a:off x="3357720" y="1960560"/>
            <a:ext cx="928440" cy="42876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2" descr=""/>
          <p:cNvPicPr/>
          <p:nvPr/>
        </p:nvPicPr>
        <p:blipFill>
          <a:blip r:embed="rId4"/>
          <a:stretch/>
        </p:blipFill>
        <p:spPr>
          <a:xfrm>
            <a:off x="7786800" y="1960560"/>
            <a:ext cx="928440" cy="42876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2" descr=""/>
          <p:cNvPicPr/>
          <p:nvPr/>
        </p:nvPicPr>
        <p:blipFill>
          <a:blip r:embed="rId5"/>
          <a:stretch/>
        </p:blipFill>
        <p:spPr>
          <a:xfrm>
            <a:off x="3000240" y="3500280"/>
            <a:ext cx="1643040" cy="42876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2" descr=""/>
          <p:cNvPicPr/>
          <p:nvPr/>
        </p:nvPicPr>
        <p:blipFill>
          <a:blip r:embed="rId6"/>
          <a:stretch/>
        </p:blipFill>
        <p:spPr>
          <a:xfrm>
            <a:off x="7643880" y="3500280"/>
            <a:ext cx="928800" cy="42876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2" descr=""/>
          <p:cNvPicPr/>
          <p:nvPr/>
        </p:nvPicPr>
        <p:blipFill>
          <a:blip r:embed="rId7"/>
          <a:stretch/>
        </p:blipFill>
        <p:spPr>
          <a:xfrm>
            <a:off x="887400" y="4008600"/>
            <a:ext cx="1643040" cy="42840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2" descr=""/>
          <p:cNvPicPr/>
          <p:nvPr/>
        </p:nvPicPr>
        <p:blipFill>
          <a:blip r:embed="rId8"/>
          <a:stretch/>
        </p:blipFill>
        <p:spPr>
          <a:xfrm>
            <a:off x="1793880" y="5164200"/>
            <a:ext cx="928800" cy="4284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2" descr=""/>
          <p:cNvPicPr/>
          <p:nvPr/>
        </p:nvPicPr>
        <p:blipFill>
          <a:blip r:embed="rId9"/>
          <a:stretch/>
        </p:blipFill>
        <p:spPr>
          <a:xfrm>
            <a:off x="3141720" y="5164200"/>
            <a:ext cx="928800" cy="42840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2" descr=""/>
          <p:cNvPicPr/>
          <p:nvPr/>
        </p:nvPicPr>
        <p:blipFill>
          <a:blip r:embed="rId10"/>
          <a:stretch/>
        </p:blipFill>
        <p:spPr>
          <a:xfrm>
            <a:off x="7572240" y="5143680"/>
            <a:ext cx="92880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Picture 1" descr=""/>
          <p:cNvPicPr/>
          <p:nvPr/>
        </p:nvPicPr>
        <p:blipFill>
          <a:blip r:embed="rId1"/>
          <a:stretch/>
        </p:blipFill>
        <p:spPr>
          <a:xfrm>
            <a:off x="343080" y="981000"/>
            <a:ext cx="8458200" cy="559116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2" descr=""/>
          <p:cNvPicPr/>
          <p:nvPr/>
        </p:nvPicPr>
        <p:blipFill>
          <a:blip r:embed="rId2"/>
          <a:stretch/>
        </p:blipFill>
        <p:spPr>
          <a:xfrm>
            <a:off x="1857240" y="2214720"/>
            <a:ext cx="1714680" cy="42840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2" descr=""/>
          <p:cNvPicPr/>
          <p:nvPr/>
        </p:nvPicPr>
        <p:blipFill>
          <a:blip r:embed="rId3"/>
          <a:stretch/>
        </p:blipFill>
        <p:spPr>
          <a:xfrm>
            <a:off x="1643040" y="3500280"/>
            <a:ext cx="1714680" cy="42876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2" descr=""/>
          <p:cNvPicPr/>
          <p:nvPr/>
        </p:nvPicPr>
        <p:blipFill>
          <a:blip r:embed="rId4"/>
          <a:stretch/>
        </p:blipFill>
        <p:spPr>
          <a:xfrm>
            <a:off x="1917720" y="4786200"/>
            <a:ext cx="2511360" cy="42876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2" descr=""/>
          <p:cNvPicPr/>
          <p:nvPr/>
        </p:nvPicPr>
        <p:blipFill>
          <a:blip r:embed="rId5"/>
          <a:stretch/>
        </p:blipFill>
        <p:spPr>
          <a:xfrm>
            <a:off x="857160" y="6072120"/>
            <a:ext cx="171468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Picture 2" descr=""/>
          <p:cNvPicPr/>
          <p:nvPr/>
        </p:nvPicPr>
        <p:blipFill>
          <a:blip r:embed="rId1"/>
          <a:stretch/>
        </p:blipFill>
        <p:spPr>
          <a:xfrm>
            <a:off x="338040" y="900000"/>
            <a:ext cx="8467920" cy="574380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2" descr=""/>
          <p:cNvPicPr/>
          <p:nvPr/>
        </p:nvPicPr>
        <p:blipFill>
          <a:blip r:embed="rId2"/>
          <a:stretch/>
        </p:blipFill>
        <p:spPr>
          <a:xfrm>
            <a:off x="7072200" y="909720"/>
            <a:ext cx="171468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3" name="Picture 1" descr=""/>
          <p:cNvPicPr/>
          <p:nvPr/>
        </p:nvPicPr>
        <p:blipFill>
          <a:blip r:embed="rId1"/>
          <a:stretch/>
        </p:blipFill>
        <p:spPr>
          <a:xfrm>
            <a:off x="314280" y="981000"/>
            <a:ext cx="8515440" cy="559116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2" descr=""/>
          <p:cNvPicPr/>
          <p:nvPr/>
        </p:nvPicPr>
        <p:blipFill>
          <a:blip r:embed="rId2"/>
          <a:stretch/>
        </p:blipFill>
        <p:spPr>
          <a:xfrm>
            <a:off x="857160" y="988920"/>
            <a:ext cx="1714680" cy="42876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2" descr=""/>
          <p:cNvPicPr/>
          <p:nvPr/>
        </p:nvPicPr>
        <p:blipFill>
          <a:blip r:embed="rId3"/>
          <a:stretch/>
        </p:blipFill>
        <p:spPr>
          <a:xfrm>
            <a:off x="928800" y="2908440"/>
            <a:ext cx="1714320" cy="42840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2" descr=""/>
          <p:cNvPicPr/>
          <p:nvPr/>
        </p:nvPicPr>
        <p:blipFill>
          <a:blip r:embed="rId4"/>
          <a:stretch/>
        </p:blipFill>
        <p:spPr>
          <a:xfrm>
            <a:off x="7786800" y="2917800"/>
            <a:ext cx="1143000" cy="42876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2" descr=""/>
          <p:cNvPicPr/>
          <p:nvPr/>
        </p:nvPicPr>
        <p:blipFill>
          <a:blip r:embed="rId5"/>
          <a:stretch/>
        </p:blipFill>
        <p:spPr>
          <a:xfrm>
            <a:off x="214200" y="3552840"/>
            <a:ext cx="1143000" cy="42876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2" descr=""/>
          <p:cNvPicPr/>
          <p:nvPr/>
        </p:nvPicPr>
        <p:blipFill>
          <a:blip r:embed="rId6"/>
          <a:stretch/>
        </p:blipFill>
        <p:spPr>
          <a:xfrm>
            <a:off x="2000160" y="4184640"/>
            <a:ext cx="1357560" cy="42876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2" descr=""/>
          <p:cNvPicPr/>
          <p:nvPr/>
        </p:nvPicPr>
        <p:blipFill>
          <a:blip r:embed="rId7"/>
          <a:stretch/>
        </p:blipFill>
        <p:spPr>
          <a:xfrm>
            <a:off x="5643720" y="4826160"/>
            <a:ext cx="135720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0" name="Picture 1" descr=""/>
          <p:cNvPicPr/>
          <p:nvPr/>
        </p:nvPicPr>
        <p:blipFill>
          <a:blip r:embed="rId1"/>
          <a:stretch/>
        </p:blipFill>
        <p:spPr>
          <a:xfrm>
            <a:off x="343080" y="1062000"/>
            <a:ext cx="8458200" cy="501012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2" descr=""/>
          <p:cNvPicPr/>
          <p:nvPr/>
        </p:nvPicPr>
        <p:blipFill>
          <a:blip r:embed="rId2"/>
          <a:stretch/>
        </p:blipFill>
        <p:spPr>
          <a:xfrm>
            <a:off x="5214960" y="1031760"/>
            <a:ext cx="1357200" cy="42876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2" descr=""/>
          <p:cNvPicPr/>
          <p:nvPr/>
        </p:nvPicPr>
        <p:blipFill>
          <a:blip r:embed="rId3"/>
          <a:stretch/>
        </p:blipFill>
        <p:spPr>
          <a:xfrm>
            <a:off x="5918040" y="2306520"/>
            <a:ext cx="1582920" cy="42876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2" descr=""/>
          <p:cNvPicPr/>
          <p:nvPr/>
        </p:nvPicPr>
        <p:blipFill>
          <a:blip r:embed="rId4"/>
          <a:stretch/>
        </p:blipFill>
        <p:spPr>
          <a:xfrm>
            <a:off x="5560920" y="3583080"/>
            <a:ext cx="1357560" cy="42840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2" descr=""/>
          <p:cNvPicPr/>
          <p:nvPr/>
        </p:nvPicPr>
        <p:blipFill>
          <a:blip r:embed="rId5"/>
          <a:stretch/>
        </p:blipFill>
        <p:spPr>
          <a:xfrm>
            <a:off x="4929120" y="4235400"/>
            <a:ext cx="1357560" cy="42876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2" descr=""/>
          <p:cNvPicPr/>
          <p:nvPr/>
        </p:nvPicPr>
        <p:blipFill>
          <a:blip r:embed="rId6"/>
          <a:stretch/>
        </p:blipFill>
        <p:spPr>
          <a:xfrm>
            <a:off x="7104240" y="4878360"/>
            <a:ext cx="135720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8T01:30:40Z</dcterms:modified>
  <cp:revision>4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